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81A-2CC2-4845-80FD-02DA839E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505-D8C0-416F-B986-EB23AF8A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74C-9399-4129-A91E-B53DD28A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16C-DCC0-4F16-AA44-06025CA3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137C-AB18-4DA7-BE53-201CD8B6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9629-200D-44C9-9976-B6FB4C56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87AF-0114-43E7-9B86-AE8DEE9E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3A7D-CCBD-4456-A2B1-1593FE6C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1D92-4BCC-4DA3-A65C-4C0BDDA6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9095-B6F7-4508-88BE-40FC9A2B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2F56-BB5D-43D4-8A56-0EBC62C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949-3955-4EEA-A97D-13BF5E52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F8C1-CAF1-4F5F-BE21-399C8138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D994-63A4-46A5-97BA-2971D6A6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849B-EBB2-4233-A3B1-D10912A1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C712-D108-4180-80FF-46C6C7ED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C44E-E97C-4401-83AD-19BE2FB2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03B-C0DF-400F-8A19-3CCF9B36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898-E365-4CFF-AFB0-81CB2B80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8F6-2BFD-4AB7-8312-EBE05B6D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F2D-9444-4003-960B-8A63B086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A12-D59B-4DF1-98F2-8899594B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086-AB4E-47B7-8B84-5455D2B4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9BF-2F4C-46A3-8076-347FB38D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BAB1-C35D-4772-94E0-1EE0BDD397AB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A116-F499-4BDF-A847-E0E36ECBC858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a3d7a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2a3d7a"/>
                </a:solidFill>
                <a:latin typeface="Arial Black"/>
              </a:rPr>
              <a:t>открытая школа для всех</a:t>
            </a:r>
            <a:r>
              <a:rPr b="1" lang="en-US" sz="3200" spc="-1" strike="noStrike">
                <a:solidFill>
                  <a:srgbClr val="2a3d7a"/>
                </a:solidFill>
                <a:latin typeface="Arial Black"/>
              </a:rPr>
              <a:t>? </a:t>
            </a:r>
            <a:r>
              <a:rPr b="1" lang="ru-RU" sz="2800" spc="-1" strike="noStrike">
                <a:solidFill>
                  <a:srgbClr val="2a3d7a"/>
                </a:solidFill>
                <a:latin typeface="Arial Black"/>
              </a:rPr>
              <a:t>Инклюзивное образование</a:t>
            </a:r>
            <a:r>
              <a:rPr b="1" lang="en-US" sz="2800" spc="-1" strike="noStrike">
                <a:solidFill>
                  <a:srgbClr val="2a3d7a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2a3d7a"/>
                </a:solidFill>
                <a:latin typeface="Arial Black"/>
              </a:rPr>
              <a:t>для детей с аутистическим спектром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1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Танцюра  С.Ю.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кан.пед.наук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80880" y="1752480"/>
            <a:ext cx="170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Рисунок 5" descr="i677.jpg"/>
          <p:cNvPicPr/>
          <p:nvPr/>
        </p:nvPicPr>
        <p:blipFill>
          <a:blip r:embed="rId1"/>
          <a:stretch/>
        </p:blipFill>
        <p:spPr>
          <a:xfrm>
            <a:off x="826920" y="2852640"/>
            <a:ext cx="3529080" cy="2646360"/>
          </a:xfrm>
          <a:prstGeom prst="rect">
            <a:avLst/>
          </a:prstGeom>
          <a:ln w="57240">
            <a:solidFill>
              <a:srgbClr val="19385d"/>
            </a:solidFill>
            <a:miter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838080"/>
            <a:ext cx="815472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При обучении аутистов необходим нестандартный подход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4920" y="2060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Учет их особого темпа работы и трудности в организации внимания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Устройство школьной жизни с тщательно продуманным функциональным пространством класса, рабочего места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Устойчивый порядок занятий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Рисунок 3" descr="iсм.jpg"/>
          <p:cNvPicPr/>
          <p:nvPr/>
        </p:nvPicPr>
        <p:blipFill>
          <a:blip r:embed="rId1"/>
          <a:stretch/>
        </p:blipFill>
        <p:spPr>
          <a:xfrm>
            <a:off x="3492360" y="5229360"/>
            <a:ext cx="2657520" cy="142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838080"/>
            <a:ext cx="815472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3d7a"/>
                </a:solidFill>
                <a:latin typeface="Times New Roman"/>
              </a:rPr>
              <a:t>Что лучше для ребенка с аутизмом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1844280"/>
            <a:ext cx="829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щеобразовательная     Индивидуальное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школа                                          обуч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Надомное обучение      Специальный клас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ля аутисто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Рисунок 7" descr="i56.jpg"/>
          <p:cNvPicPr/>
          <p:nvPr/>
        </p:nvPicPr>
        <p:blipFill>
          <a:blip r:embed="rId1"/>
          <a:stretch/>
        </p:blipFill>
        <p:spPr>
          <a:xfrm>
            <a:off x="3203640" y="2781360"/>
            <a:ext cx="2736720" cy="1866960"/>
          </a:xfrm>
          <a:prstGeom prst="rect">
            <a:avLst/>
          </a:prstGeom>
          <a:ln w="0">
            <a:noFill/>
          </a:ln>
        </p:spPr>
      </p:pic>
      <p:cxnSp>
        <p:nvCxnSpPr>
          <p:cNvPr id="117" name="Прямая со стрелкой 17"/>
          <p:cNvCxnSpPr/>
          <p:nvPr/>
        </p:nvCxnSpPr>
        <p:spPr>
          <a:xfrm flipV="1">
            <a:off x="5292360" y="2924280"/>
            <a:ext cx="1080360" cy="576360"/>
          </a:xfrm>
          <a:prstGeom prst="straightConnector1">
            <a:avLst/>
          </a:prstGeom>
          <a:ln w="57240">
            <a:solidFill>
              <a:srgbClr val="5b5249"/>
            </a:solidFill>
            <a:miter/>
            <a:tailEnd len="med" type="arrow" w="med"/>
          </a:ln>
        </p:spPr>
      </p:cxnSp>
      <p:cxnSp>
        <p:nvCxnSpPr>
          <p:cNvPr id="118" name="Прямая со стрелкой 26"/>
          <p:cNvCxnSpPr/>
          <p:nvPr/>
        </p:nvCxnSpPr>
        <p:spPr>
          <a:xfrm flipH="1" flipV="1">
            <a:off x="2626920" y="2851920"/>
            <a:ext cx="1153440" cy="577080"/>
          </a:xfrm>
          <a:prstGeom prst="straightConnector1">
            <a:avLst/>
          </a:prstGeom>
          <a:ln w="57240">
            <a:solidFill>
              <a:srgbClr val="5b5249"/>
            </a:solidFill>
            <a:miter/>
            <a:tailEnd len="med" type="arrow" w="med"/>
          </a:ln>
        </p:spPr>
      </p:cxnSp>
      <p:cxnSp>
        <p:nvCxnSpPr>
          <p:cNvPr id="119" name="Прямая со стрелкой 29"/>
          <p:cNvCxnSpPr/>
          <p:nvPr/>
        </p:nvCxnSpPr>
        <p:spPr>
          <a:xfrm flipH="1">
            <a:off x="2410920" y="4220640"/>
            <a:ext cx="1656720" cy="1080360"/>
          </a:xfrm>
          <a:prstGeom prst="straightConnector1">
            <a:avLst/>
          </a:prstGeom>
          <a:ln w="57240">
            <a:solidFill>
              <a:srgbClr val="5b5249"/>
            </a:solidFill>
            <a:miter/>
            <a:tailEnd len="med" type="arrow" w="med"/>
          </a:ln>
        </p:spPr>
      </p:cxnSp>
      <p:cxnSp>
        <p:nvCxnSpPr>
          <p:cNvPr id="120" name="Прямая со стрелкой 33"/>
          <p:cNvCxnSpPr/>
          <p:nvPr/>
        </p:nvCxnSpPr>
        <p:spPr>
          <a:xfrm>
            <a:off x="5148000" y="4076280"/>
            <a:ext cx="1440360" cy="1297800"/>
          </a:xfrm>
          <a:prstGeom prst="straightConnector1">
            <a:avLst/>
          </a:prstGeom>
          <a:ln w="57240">
            <a:solidFill>
              <a:srgbClr val="5b5249"/>
            </a:solidFill>
            <a:miter/>
            <a:tailEnd len="med" type="arrow" w="med"/>
          </a:ln>
        </p:spPr>
      </p:cxn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ндивидуальное и домашнее обучение: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е способствует его социальному развитию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оздает почву для вторичной аутизаци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Рисунок 8" descr="i890.jpg"/>
          <p:cNvPicPr/>
          <p:nvPr/>
        </p:nvPicPr>
        <p:blipFill>
          <a:blip r:embed="rId1"/>
          <a:stretch/>
        </p:blipFill>
        <p:spPr>
          <a:xfrm>
            <a:off x="3132000" y="4365720"/>
            <a:ext cx="2808360" cy="2151000"/>
          </a:xfrm>
          <a:prstGeom prst="rect">
            <a:avLst/>
          </a:prstGeom>
          <a:ln w="38160">
            <a:solidFill>
              <a:srgbClr val="19385d"/>
            </a:solidFill>
            <a:miter/>
          </a:ln>
        </p:spPr>
      </p:pic>
      <p:sp>
        <p:nvSpPr>
          <p:cNvPr id="124" name="Стрелка вниз 9"/>
          <p:cNvSpPr/>
          <p:nvPr/>
        </p:nvSpPr>
        <p:spPr>
          <a:xfrm>
            <a:off x="3995640" y="3789360"/>
            <a:ext cx="863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9385d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8227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Специальный класс для аутистов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640" y="1844280"/>
            <a:ext cx="820440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Легче реализовывать нестандартный подход в обучении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- Дети попадают в обедненную среду, не видят образцов естественного поведения одноклассников, их реакций на происходящее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- Слишком хорошо организованная учебная ситуация не дает навыков жизни в обычном, меняющемся мире. </a:t>
            </a:r>
            <a:br>
              <a:rPr sz="3200"/>
            </a:b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Можно сделать вывод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Наиболее перспективной формой школьного обучения аутичного ребенка-постепенная, индивидуально дозированная и специально поддержанная интеграция в группу или класс детей с отсутствием или меньшей выраженностью проблем коммуникаци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Рисунок 3" descr="i89.jpg"/>
          <p:cNvPicPr/>
          <p:nvPr/>
        </p:nvPicPr>
        <p:blipFill>
          <a:blip r:embed="rId1"/>
          <a:stretch/>
        </p:blipFill>
        <p:spPr>
          <a:xfrm>
            <a:off x="6875640" y="333360"/>
            <a:ext cx="1873080" cy="1871640"/>
          </a:xfrm>
          <a:prstGeom prst="rect">
            <a:avLst/>
          </a:prstGeom>
          <a:ln w="28440">
            <a:solidFill>
              <a:srgbClr val="5b5249"/>
            </a:solidFill>
            <a:miter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Овал 5"/>
          <p:cNvSpPr/>
          <p:nvPr/>
        </p:nvSpPr>
        <p:spPr>
          <a:xfrm>
            <a:off x="2627280" y="2349360"/>
            <a:ext cx="3889440" cy="3959280"/>
          </a:xfrm>
          <a:prstGeom prst="ellipse">
            <a:avLst/>
          </a:prstGeom>
          <a:solidFill>
            <a:srgbClr val="c9ddf1"/>
          </a:solidFill>
          <a:ln w="76320">
            <a:solidFill>
              <a:srgbClr val="2e29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ебенок с аутизмом в «скорлупе-оболочке»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Содержимое 3" descr="678.jpg"/>
          <p:cNvPicPr/>
          <p:nvPr/>
        </p:nvPicPr>
        <p:blipFill>
          <a:blip r:embed="rId1"/>
          <a:stretch/>
        </p:blipFill>
        <p:spPr>
          <a:xfrm>
            <a:off x="3132000" y="2997360"/>
            <a:ext cx="2952720" cy="244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838080"/>
            <a:ext cx="86598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Обучение в </a:t>
            </a:r>
            <a:br>
              <a:rPr sz="4400"/>
            </a:b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         школе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4000" y="1699920"/>
            <a:ext cx="829944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Участие в жизни школ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ация неформальных контактов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а перемене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Заинтересованность учителя в ребенке и в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том, что он делает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сихолого-педагогическая готовность педагоги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ческих кадров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мощь в педагога и психолога в организации ребен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во времени и пространстве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Ребенку рады и его принимают, таким какой он ест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Рисунок 44" descr="9000.jpg"/>
          <p:cNvPicPr/>
          <p:nvPr/>
        </p:nvPicPr>
        <p:blipFill>
          <a:blip r:embed="rId1"/>
          <a:stretch/>
        </p:blipFill>
        <p:spPr>
          <a:xfrm>
            <a:off x="7596360" y="4724280"/>
            <a:ext cx="1350720" cy="18622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9"/>
          <p:cNvSpPr/>
          <p:nvPr/>
        </p:nvSpPr>
        <p:spPr>
          <a:xfrm flipV="1">
            <a:off x="7524720" y="4076280"/>
            <a:ext cx="0" cy="647640"/>
          </a:xfrm>
          <a:prstGeom prst="line">
            <a:avLst/>
          </a:prstGeom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Прямая соединительная линия 51"/>
          <p:cNvSpPr/>
          <p:nvPr/>
        </p:nvSpPr>
        <p:spPr>
          <a:xfrm flipH="1">
            <a:off x="6875280" y="4076640"/>
            <a:ext cx="649080" cy="0"/>
          </a:xfrm>
          <a:prstGeom prst="line">
            <a:avLst/>
          </a:prstGeom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Прямая соединительная линия 53"/>
          <p:cNvSpPr/>
          <p:nvPr/>
        </p:nvSpPr>
        <p:spPr>
          <a:xfrm flipV="1">
            <a:off x="6875640" y="3357360"/>
            <a:ext cx="0" cy="718920"/>
          </a:xfrm>
          <a:prstGeom prst="line">
            <a:avLst/>
          </a:prstGeom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Прямая соединительная линия 55"/>
          <p:cNvSpPr/>
          <p:nvPr/>
        </p:nvSpPr>
        <p:spPr>
          <a:xfrm flipH="1">
            <a:off x="6156360" y="3357720"/>
            <a:ext cx="719280" cy="0"/>
          </a:xfrm>
          <a:prstGeom prst="line">
            <a:avLst/>
          </a:prstGeom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Прямая соединительная линия 58"/>
          <p:cNvSpPr/>
          <p:nvPr/>
        </p:nvSpPr>
        <p:spPr>
          <a:xfrm flipV="1">
            <a:off x="6156360" y="2421000"/>
            <a:ext cx="0" cy="936720"/>
          </a:xfrm>
          <a:prstGeom prst="line">
            <a:avLst/>
          </a:prstGeom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Прямая соединительная линия 60"/>
          <p:cNvSpPr/>
          <p:nvPr/>
        </p:nvSpPr>
        <p:spPr>
          <a:xfrm flipH="1">
            <a:off x="5651640" y="2421000"/>
            <a:ext cx="504720" cy="0"/>
          </a:xfrm>
          <a:prstGeom prst="line">
            <a:avLst/>
          </a:prstGeom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Прямая соединительная линия 63"/>
          <p:cNvSpPr/>
          <p:nvPr/>
        </p:nvSpPr>
        <p:spPr>
          <a:xfrm flipV="1">
            <a:off x="5651640" y="1989000"/>
            <a:ext cx="0" cy="432000"/>
          </a:xfrm>
          <a:prstGeom prst="line">
            <a:avLst/>
          </a:prstGeom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Прямая соединительная линия 65"/>
          <p:cNvSpPr/>
          <p:nvPr/>
        </p:nvSpPr>
        <p:spPr>
          <a:xfrm flipH="1">
            <a:off x="4066920" y="1989000"/>
            <a:ext cx="1584360" cy="0"/>
          </a:xfrm>
          <a:prstGeom prst="line">
            <a:avLst/>
          </a:prstGeom>
          <a:ln w="572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Рисунок 66" descr="i.jpg"/>
          <p:cNvPicPr/>
          <p:nvPr/>
        </p:nvPicPr>
        <p:blipFill>
          <a:blip r:embed="rId2"/>
          <a:stretch/>
        </p:blipFill>
        <p:spPr>
          <a:xfrm>
            <a:off x="4716360" y="189000"/>
            <a:ext cx="2376720" cy="1789200"/>
          </a:xfrm>
          <a:prstGeom prst="rect">
            <a:avLst/>
          </a:prstGeom>
          <a:ln w="0">
            <a:noFill/>
          </a:ln>
        </p:spPr>
      </p:pic>
      <p:cxnSp>
        <p:nvCxnSpPr>
          <p:cNvPr id="145" name="Прямая со стрелкой 68"/>
          <p:cNvCxnSpPr/>
          <p:nvPr/>
        </p:nvCxnSpPr>
        <p:spPr>
          <a:xfrm flipH="1" flipV="1">
            <a:off x="6442920" y="2133000"/>
            <a:ext cx="1513800" cy="1943640"/>
          </a:xfrm>
          <a:prstGeom prst="straightConnector1">
            <a:avLst/>
          </a:prstGeom>
          <a:ln w="57240">
            <a:solidFill>
              <a:srgbClr val="0a1625"/>
            </a:solidFill>
            <a:miter/>
            <a:tailEnd len="med" type="arrow" w="med"/>
          </a:ln>
        </p:spPr>
      </p:cxn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838080"/>
            <a:ext cx="8227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 итоге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628640"/>
            <a:ext cx="8370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ебенок осваивает ранее недоступные ему способы коммуникации с другими людьми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тановиться более адаптированным в быту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тановиться менее аутистически отгороженным, более направленным на социальную жизнь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Рисунок 7" descr="ть.jpg"/>
          <p:cNvPicPr/>
          <p:nvPr/>
        </p:nvPicPr>
        <p:blipFill>
          <a:blip r:embed="rId1"/>
          <a:stretch/>
        </p:blipFill>
        <p:spPr>
          <a:xfrm>
            <a:off x="5003640" y="4508640"/>
            <a:ext cx="276732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Другой сценарий обучения в школе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916280"/>
            <a:ext cx="8370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едагоги не знакомы с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собыми нуждами аутичных детей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Формальное курирование обучения со сторо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ы педагог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омощь в адаптации, развитии навыков коммуни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ации не осуществляется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ключение в жизнь школы носит механистическ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характер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ет участия в жизни класс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Рисунок 3" descr="Ucheba.jpg"/>
          <p:cNvPicPr/>
          <p:nvPr/>
        </p:nvPicPr>
        <p:blipFill>
          <a:blip r:embed="rId1"/>
          <a:stretch/>
        </p:blipFill>
        <p:spPr>
          <a:xfrm>
            <a:off x="6156360" y="1197000"/>
            <a:ext cx="1341360" cy="1368360"/>
          </a:xfrm>
          <a:prstGeom prst="rect">
            <a:avLst/>
          </a:prstGeom>
          <a:ln w="0">
            <a:noFill/>
          </a:ln>
        </p:spPr>
      </p:pic>
      <p:cxnSp>
        <p:nvCxnSpPr>
          <p:cNvPr id="152" name="Прямая со стрелкой 18"/>
          <p:cNvCxnSpPr/>
          <p:nvPr/>
        </p:nvCxnSpPr>
        <p:spPr>
          <a:xfrm>
            <a:off x="7451280" y="2637000"/>
            <a:ext cx="1513800" cy="302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20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тог: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680" y="148392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Тяжесть обучения ложится на плечи родителей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ебенок не осваивает более сложные, более гибкие формы отношений с другими людьми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Ребенок в подростковом возрасте часто проходит период отчуждения со стороны своих более благополучных одноклассников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Рисунок 3" descr="i34.jpg"/>
          <p:cNvPicPr/>
          <p:nvPr/>
        </p:nvPicPr>
        <p:blipFill>
          <a:blip r:embed="rId1"/>
          <a:stretch/>
        </p:blipFill>
        <p:spPr>
          <a:xfrm>
            <a:off x="6588000" y="189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нклюзивное образование-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0920" y="1628640"/>
            <a:ext cx="8227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или включенное образование - термин, используемый для описания процесса обучения детей с особыми потребностями в общеобразовательных (массовых) школах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роцесс развития общего образования, который подразумевает доступность образования для всех, в плане приспособления к различным нуждам всех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тей.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ндивидуальное обучение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4920" y="2101680"/>
            <a:ext cx="84438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ебенок испытывае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сихологическую травму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едко получает действительно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индивидуально подобранную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грамму коррекционного обучени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ебенок оказывается в ситуации искусственной  изоляции, дополнительно ограничивающей его возможности социального развития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58" name="Прямая со стрелкой 4"/>
          <p:cNvCxnSpPr/>
          <p:nvPr/>
        </p:nvCxnSpPr>
        <p:spPr>
          <a:xfrm>
            <a:off x="5076360" y="2133360"/>
            <a:ext cx="3241080" cy="3096360"/>
          </a:xfrm>
          <a:prstGeom prst="straightConnector1">
            <a:avLst/>
          </a:prstGeom>
          <a:ln w="57240">
            <a:solidFill>
              <a:srgbClr val="5b5249"/>
            </a:solidFill>
            <a:miter/>
            <a:tailEnd len="med" type="arrow" w="med"/>
          </a:ln>
        </p:spPr>
      </p:cxnSp>
      <p:pic>
        <p:nvPicPr>
          <p:cNvPr id="159" name="Рисунок 6" descr="i.jpg"/>
          <p:cNvPicPr/>
          <p:nvPr/>
        </p:nvPicPr>
        <p:blipFill>
          <a:blip r:embed="rId1"/>
          <a:stretch/>
        </p:blipFill>
        <p:spPr>
          <a:xfrm>
            <a:off x="6659640" y="2060640"/>
            <a:ext cx="2152440" cy="142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Овал 4"/>
          <p:cNvSpPr/>
          <p:nvPr/>
        </p:nvSpPr>
        <p:spPr>
          <a:xfrm>
            <a:off x="1619280" y="1268280"/>
            <a:ext cx="6337440" cy="5185080"/>
          </a:xfrm>
          <a:prstGeom prst="ellipse">
            <a:avLst/>
          </a:prstGeom>
          <a:solidFill>
            <a:srgbClr val="c9ddf1"/>
          </a:solidFill>
          <a:ln w="7632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тог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2" name="Содержимое 3" descr="i2.jpg"/>
          <p:cNvPicPr/>
          <p:nvPr/>
        </p:nvPicPr>
        <p:blipFill>
          <a:blip r:embed="rId1"/>
          <a:stretch/>
        </p:blipFill>
        <p:spPr>
          <a:xfrm>
            <a:off x="3419640" y="2060640"/>
            <a:ext cx="2328840" cy="31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робелы в российской системе образования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916280"/>
            <a:ext cx="8820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т образовательного стандарта для детей с аутизмом.  Подходы для других особенностей развития не отвечают потребностям детей с аутизмом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 адаптирован успешный зарубежный опыт поведенческих методов обучения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т специализированных программ для обучения и инклюзии аутистов с серьезными нарушениями речи. Существует необходимость во внедрении новой инновационной модели по обучению детей с аутизмом и задержкой речи, но сохранным интеллектом, которая позволит подготовить их к интеграции в общеобразовательную школ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1295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2a3d7a"/>
                </a:solidFill>
                <a:latin typeface="Arial Black"/>
              </a:rPr>
              <a:t>ШАГИ ПО РАЗВИТИЮ ИНТЕГРИРОВАННОГО (ИНКЛЮЗИВНОГО ) ОБРАЗОВАНИЯ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Выработка государственной политики и создание нормативно-правовой базы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Обязательная  профессиональная подготовка учителей для перехода к образовательной инклюзии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Для перехода к инклюзии необходима подготовка всех участников школьного сообщества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Формирование позитивного  общественного мнения через проведение постоянных информационных кампаний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Вовлечение в процесс развития инклюзивного образования общественных организаций, родительских групп, профессионалов из системы специального образования и других заинтересованных участников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Использование потенциала ресурсных центров поддержки инклюзивного образования с привлечением профессионального психолого-педагогического опыта специальной школы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a3d7a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8" descr="i2.jpg"/>
          <p:cNvPicPr/>
          <p:nvPr/>
        </p:nvPicPr>
        <p:blipFill>
          <a:blip r:embed="rId1"/>
          <a:stretch/>
        </p:blipFill>
        <p:spPr>
          <a:xfrm>
            <a:off x="5364000" y="2781360"/>
            <a:ext cx="3456000" cy="3600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8227800" cy="25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ссмотрим, что представляет из себя инклюзивное образование для детей с аутистическим спектром в России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837720"/>
            <a:ext cx="808344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Принципы инклюзивного образования: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55640" y="1700280"/>
            <a:ext cx="808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Ценность человека не зависит от его способностей и достижений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аждый человек способен чувствовать и думать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аждый человек имеет право на общение и на то, чтобы быть услышанным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одлинное образование может осуществляться только в контексте реальных взаимоотношений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знообразие усиливает все стороны жизни человек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8227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Инклюзивное образование подразумевает: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12640"/>
            <a:ext cx="837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Техническое оснащение образовательных учреждений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зработку специальных учебных курсов для педагогов и других учащихся, направленных на развитие их взаимодействия с детьми с ОВЗ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пециальные программы, направленные на облегчение процесса адаптации детей с ОВ в общеобразовательном учреждени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ход ребенка в общеобразовательную среду сопровождается поддержкой психолога и педагог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624800" cy="15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ФГОС детей с РАС (ПРОЕКТ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3714840" cy="452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Трудности обучения детей с РД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сихологические особенности  (аутостимуляции, стереотипность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собенности поведени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рганизация сред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b5249"/>
                </a:solidFill>
                <a:latin typeface="Times New Roman"/>
              </a:rPr>
              <a:t>Четкая организация среды класса, структура урока, эмоционально комфортная обстановка.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b5249"/>
                </a:solidFill>
                <a:latin typeface="Times New Roman"/>
              </a:rPr>
              <a:t>Поддержка ребенка на уроке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b5249"/>
                </a:solidFill>
                <a:latin typeface="Times New Roman"/>
              </a:rPr>
              <a:t>Оснащение необходимыми навыками коммуникации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b5249"/>
                </a:solidFill>
                <a:latin typeface="Times New Roman"/>
              </a:rPr>
              <a:t>Осмысленное обучение ребенка (а не механическое)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ФОРМЫ обучени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Методы адаптации к школьной среде («удобный» в классе ученик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оциальное развитие такого ребенка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инципы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СТЕПЕННО дозированная нагрузка, поэтапна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сихолого- педагогическая поддержк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bedeva</dc:creator>
  <dc:description/>
  <dc:language>en-US</dc:language>
  <cp:lastModifiedBy>1</cp:lastModifiedBy>
  <dcterms:modified xsi:type="dcterms:W3CDTF">2015-11-05T20:39:16Z</dcterms:modified>
  <cp:revision>79</cp:revision>
  <dc:subject/>
  <dc:title>PowerPoint Presentation</dc:title>
</cp:coreProperties>
</file>